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D5FAC20-6A45-446E-BE7C-F73A47F454CF}"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6A2DF6F-B3C6-44EB-BD8A-CDD50D67788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2FC5640-EC81-4CF8-82BD-2C26524F37B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59740F2-513A-481B-94B8-F649220BF81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C530795-85FC-4BD8-9858-ED36D31E782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15B93DE-F555-4A57-A95D-87A20CE8D21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0AC239F-CC52-4CD3-B9E1-1DFC5969BFA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80247E4-4004-482B-A0A0-DA3315C2CE4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E9D644E-D35F-4938-B215-EF93B58021D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FD5A429-F83D-4E02-A5F8-F9A2D3A5F61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DA9ECA6-3E42-4548-A124-A704A11F0CD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B92BEA2-A516-4CD8-8C2F-21CF8C10C4F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25A669A-7574-4E42-BC7B-8497454ECE4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81F21BD-3EB1-4633-84E3-8BEDBD07CF9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C7B0014-CFE2-4679-A2B0-C709F05CB0E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0078BE8-8BE4-4C81-BAAE-6DB14A55DB2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A57B5D4-0B97-4751-8C29-FC81D00960B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BF1A622-4B62-4F4A-B315-B01E4E5727C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1621398-22CC-4C0D-A21E-E90BDB32CAD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0CC4348-F778-4A9D-839D-D67E291DEB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A738478-6A6C-41B5-9E7A-9DE9FDC42E5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8A22B73-88D2-449B-B0B0-191A83E6235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23062FE-49EF-4421-A88C-509D7CB5B77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197CF25-68C6-4C82-B10F-DCEECC4C9CD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8C22B1-0399-4420-9C74-41780A8AA61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B6673F5-1459-4913-87D0-DFC096DE080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97E05-FBCA-4E36-B13E-BC21F6EAC4C0}"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7E78D-3953-4908-959D-1AB9C273BA80}"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397D6FC-79AD-4955-9378-7C79D827D0D4}"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ACD970D-B016-4105-BB38-302B421CA481}"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6674B73-F840-4472-B2D5-90A218A7F10F}"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4A40AC0-B55A-4C9D-925B-C4E07C973472}"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3BD18B2-1974-4445-AFA2-517523CD09CB}"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E10B332-4D44-46E5-8490-70BD7C3D1A84}"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4001EDC-6BD0-4DD6-B22D-3F6D3F3CE887}"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18B165D-EF50-4CCB-9917-40038AE33667}"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A21D9D0-FC96-4F81-9530-904D37B2DD9C}"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08841AF-D5CD-4F5D-95C7-964C91A85CCC}"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389E916-5381-4499-9432-D41801146247}"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911AAB3-E9FB-46BB-BBEB-3D2D90EDFE6D}"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651C93A-4203-40E2-8620-BB84A3AA29C6}"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138C131-BBE1-4187-B7D4-2062EF13047F}"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7446BFF-AD63-4AFA-B40C-062086E26307}"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3CBEC7A-E264-4209-B6C1-DEA0955C4CE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E90EAC3-A3FE-4579-9FED-772D6338CB2A}"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477DE71-7ADC-48B4-B487-3431C3CA5DF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A30D01A8-462A-46DD-914C-211706B9E945}"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C460010-AF78-4268-9896-2231548517CE}"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0F664BE-F4F9-4143-A045-BEF43D4DBE7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570CB16-E352-4ED7-8638-2ED9BD35913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B710AC7-7A65-4171-A52F-93B8862E5AC5}"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20F7ED1-2B64-4101-A796-5A744E94007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811C292-9DCB-4F89-9B39-DD4A38D15FC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0B30051-A130-433C-912E-922DC25959B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C12325F-BB56-42D5-9BCB-FD066F2D4438}"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A078027-863F-4128-9F77-2C34D6E9ED4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57E61F0-07B9-4F35-9AD7-544C566E3EC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284997D-8A4D-423B-AA95-AF6A080011F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0DD6EE2-D653-4F78-B165-A20EF7825462}"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69850EC-9DDD-4962-887C-9906AF2C8D2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ED2AEDA-4A00-4F26-A4E9-7448CBA7984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B88FE2A-D785-4E9C-8D08-10CBA6D33784}"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4F553D4-389E-4382-AD80-4C9CC794A51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5C9F249-0B4F-48C2-814C-3457B7F18D3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F7051FD-581C-4C17-A0CE-45C3777B4B3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11D6A7A-D549-4A87-9631-F8F4ABB6C9D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4B562B5-B19A-4F0F-8BAB-3D98741659E3}"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BB5E8EE-8B6D-4661-B2E9-D4506520C5B8}"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C1D1845-58A4-43C6-8D60-5E0DC878A7BE}"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EF6CA1A-F19C-46A9-BB21-7A2141E5E11B}"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1786300-4D4A-454D-B621-F187F86E7DE8}"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ED09EF2-BCDE-4E56-B41A-479E50208C50}"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83894BC-3311-49DC-A524-5663515DCD54}"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34E3581-943B-47ED-803F-341B046ABC77}"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AF3D8A4-68CB-42D5-B7FA-29CFCFD9E30F}"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4F20239-1247-47AB-9E78-10E1C78B4425}"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DA02875-67E5-4465-9BEF-655460A47A10}"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7800435-6561-48BC-934D-464C200500F4}"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5CCE242-284E-4B69-A03E-51AB5F336B08}"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69EB968-A6CA-4B73-A735-4F10F2A527B2}"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24EBB80-BE1B-41BA-B390-5B2077AB4510}"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B6F40F4-1543-41F3-979A-C392B4B6C760}"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3A74F41-C161-4B40-966C-1878C106B784}"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DD0BE1C-1005-4171-95C5-979F47DBB8FB}"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6CFD100-BEDE-4B96-8ED8-E863B35776C1}"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0984960-2C5D-4CEE-8C44-C80B11BEAACE}"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B2F7872-CD96-4E6E-8457-AF1AB4B56D7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275A224-E7E5-4E20-95A5-DA00752D5984}"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4F2E193-E1D9-4D89-9887-CB69DED7F551}"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B0DC757-A917-4B2D-A60A-0154CD245488}"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17B4043-9E10-4176-807E-A6BABB8FCCC2}"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0F59495-CED7-419C-90F3-219449EF6A1A}"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0F9F8D1-62B3-4A1D-B0A7-BDC331F9999D}"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EDB61FE-B1D9-4156-B80E-198AB69A3A72}"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7D6A6D5-580C-4375-835F-DABB437EE8E9}"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C8B9D01-65AE-48EE-B7F8-40623B329083}"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0B0DC80-B629-447A-81A0-6C4BDA142FB1}"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74A8B47-8754-439B-BD0B-888370D957F3}"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00073EA-9ED6-48BB-93CA-05D673F01420}"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1CD26F7-D34A-496D-BDD2-E16FC27D19C7}"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45D85D0-41D2-4600-9421-3C0D3CADA3DC}"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85F7C99-902E-4215-9787-B2DB3A944E07}"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C2AF53A-1063-4C81-BA18-6F85E246E0B6}"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F0848D3-960D-402D-AF44-E51436DEDFD1}"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FBA5456-E595-470B-B249-80D1BAEEC5A0}"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59C828B-DAAA-4E8D-B9C8-635017C86E47}"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AE476FD-DB80-4041-84F0-3F338ADF8FEF}"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38CB93D-3EE5-4007-B941-623B858EA506}"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9D4AA7B-581B-4A5A-94FB-89724BC4B35C}"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F20644C-89C5-4815-A3C3-2EB4F4F12405}"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475F7BD-07F2-4084-8568-CACDB02D1CD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3761498-5FDB-486A-A305-C336ADB7335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BAB7636-CF04-4C4C-B291-DD190DBEA3B2}"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6D940CE-4E8D-4078-8611-CF4BCCF76657}"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DE53062-9968-49A2-8E84-0F2A5352FCDF}"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C31AA54-F365-4042-BEA6-9079C0C35ECA}"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96B083A-AECF-461F-8F44-8F41D93878D0}"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CC2C675-D046-4F2E-A71F-4B046814A0C3}"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E31B627-4B5B-4D68-ABDA-E3F4328EBC1E}"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6EB8EBF-8A4D-407C-BD85-6D481FC1C7E0}"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ABD590D-794D-4E1C-BBEE-174C74107179}"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B0C4AA8-08FD-48EF-A1AF-88808C1F7719}"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22EE107E-70AB-45D7-AF2F-31F24897509A}"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13517EF-0476-4CA4-B048-D591B4FD2CBB}"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575F5A7-3E1E-4788-80BD-922A3EAAF6C6}"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4EED919-BB85-4284-8369-A85EF4B6662D}"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5251C9C-2ADE-4236-AC00-F05B72305F94}"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6D7C122-1F2D-487D-A861-D24669FFAA9F}"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0FAC72C-E613-4328-B066-DBBDE3552CD6}"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4595A73-B4FF-4034-B326-959EF9C46473}"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3EC2A6D-8BC9-44B7-8838-D76A68CC3C7C}"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CD029EE-E67D-4605-82AE-67CB0A0A6F02}"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8032BF3-1B52-4A7E-85A4-625C3576B0A1}"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AF8B599-B0AF-4D3F-A8A6-E4AD81C196D0}"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95C2ADC2-8C6C-4453-9C04-A918CB9FF63A}"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A0B6837-9602-4C77-AC3D-DACFB4FA5E59}"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064E737-9197-480C-8E6E-24DED017FF38}"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03B4186-29FD-4518-A32E-75079A559C77}"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441669D-87C0-42B1-9AF2-EFC627C5503E}"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0B7D4F8-F984-4CF9-B730-1A2F31678F79}"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